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4CD-2151-494E-A828-9EFA45F9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798-0E27-4951-8B6B-FFB8D181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C628-E074-422B-AEA4-D1B6291E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F66-90D6-4D07-9D81-1D256EDD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D9D4-8557-49E4-853B-317CEA5A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D01E-2ADD-419C-A471-C2BC2679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1280-BD93-45AB-8E1E-13180215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857D-D44F-49E0-97A2-FEAC399D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D668-3397-43E6-A6B4-456D3AB1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AC32-5CAF-4CBF-988E-5925C65C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D914-7218-49F4-9860-9FAD8EA4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618-87AA-4F36-89D9-B5AE2640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6236-EAD6-4187-9672-351AB19A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B39B-F314-42BF-9DF2-E49F3EAA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D67F-3F20-411D-B389-6046589C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FAC0-D660-40BD-A382-AE25F93F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2C9E-4F7A-4C7D-A22F-A68EAA88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5B8-484F-406C-89BD-5A9DFBBA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BBA6-CEF6-4926-B782-238FF566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AF8A-F2E1-4810-9A18-89740504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559-E9D3-44EC-BA3D-3E6F50F5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193-FC18-4EAE-AABB-901632AE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226-71EA-4D43-9A18-2F81DD2A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104-FD63-448B-9723-43B1B074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F31A-600F-4794-8FB8-DCE466E1827E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5ABA-455D-4CF7-8390-4F61CF21828A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imes New Roman"/>
              </a:rPr>
              <a:t>PSICHIKOS SAMPRATA: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, SĄMONĖ, PASĄMO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NARKOTIKAI IR SĄMONĖ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aktyvios medžiagos (pagal poveikį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ką stimuliuojanč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ką slopinanč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haliucinoge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RIKLAUSOMYBĖ (I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NĖ PRIKLAUSOMYBĖ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liguistas potraukis vartoti narkotines medžiagas komforto būklei pasiek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FIZINĖ PRIKLAUSOMYBĖ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viso organizmo funkcinės veiklos pakitimas, pasireiškiantis ryškiais psichiniais ir fiziniais sutrikimais, staiga nustojus vartoti narkotik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IKLAUSOMYBĖS VYSTYMOSI FAZ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minuoja euforizuojantis poveikis, negatyvūs padariniai neįvertinam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Narkotikų veikiamas asmuo jaučia laisvę nuo baimės ir padidėjusį savigarbos jausmą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eigiamas narkotikų poveikis iš lėto mažėja, norint pasiekti tą patį poveikį reikia didinti dozę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oblemos neigiamos. Atminties, dėmesio sutrikim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iklausomybės fazėje atsiranda smarkus dozės didinimas, kontrolės praradimas, santykių nutraukimas ir profesinio lygio smukima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Chroniškoje nykimo stadijoje aiškiai suprastėja narkotikų įsisavinimas. To pagrindas – prasidedantis organų pažeid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ik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Žmogaus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— tai daugybės tikrovės atspindėjimo ir žmogaus elgsenos reguliavimo reiškinių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suma.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: sąmonė ir pasąmon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monė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ąmonė apibrėžiama kaip nuolatinis minčių, jausmų ir suvokimų srautas, kurį protarpiais įsisąmoniname (atrankinis dėmesy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ąmonės būsenos: budri ir pakitusios sąmonės būse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kitusios sąmonės būsen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kelti sąmonės pokyči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ditaci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ipnoz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rkotikų sukeltos būse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iego kategorijos: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M (Rapid eye mov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ilus mie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MONĖS BŪSENOS (I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as ir sapnai. Miego faz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Atsipalaidavimo būsenoje, tačiau dar būdraujant, smegenų elektrinės bangos vadinamos alfa bangomi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ukrenta širdies dažnis, temperatūra, spaudimas. Bangose išryškėja </a:t>
            </a:r>
            <a:r>
              <a:rPr b="0" i="1" lang="lt-LT" sz="2300" spc="-1" strike="noStrike">
                <a:solidFill>
                  <a:srgbClr val="000000"/>
                </a:solidFill>
                <a:latin typeface="Arial"/>
              </a:rPr>
              <a:t>miego verpstės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Pereinamoji miego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Giliojo miego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REM (rapid eyes movements)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Miego stadijų kaita nakties metu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129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o sutriki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emi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rkolepsij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Miego apnėj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ktinis siaub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kitusios sąmonės būsen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dit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ipno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rkotinių medžiagų sukelti pokyč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20:42:46Z</dcterms:created>
  <dc:creator>TADAS</dc:creator>
  <dc:description/>
  <dc:language>en-US</dc:language>
  <cp:lastModifiedBy> </cp:lastModifiedBy>
  <dcterms:modified xsi:type="dcterms:W3CDTF">2007-08-30T15:15:34Z</dcterms:modified>
  <cp:revision>12</cp:revision>
  <dc:subject/>
  <dc:title>Slide 1</dc:title>
</cp:coreProperties>
</file>